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EE27-8295-4DF4-81F9-7FDC6829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7250-134B-4F35-BE64-999D2602B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6B4-8447-49E7-89C4-3610F081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379-B13B-4CD7-9080-2EE2BB7D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398-0FBA-4DC5-A4D5-FCE63DA5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754-6F26-40BD-9123-E7D147F1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268-A9CE-480B-BCE9-0E32727B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A1C-537F-457B-A3DB-6A6769AD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FF4-D7BC-41A4-AA6D-79BD2758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76C-80DF-459C-8B6D-243718C0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05D-BC41-4C40-AA6C-B1508E2D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96A-BB5C-4DE5-BC42-3C3C469F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B75-7E23-4400-A365-26FD5E2F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8F0-0E19-4BAD-B93A-9AA46DD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FC38-0CF4-40C7-836B-7AC7AB6F7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5:36Z</dcterms:modified>
  <cp:revision>104</cp:revision>
  <dc:subject/>
  <dc:title>Profile</dc:title>
</cp:coreProperties>
</file>